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D0F5-F82D-4C74-9189-87CBF5C28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8A25-491B-49A4-BD47-2BAA2C5B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E9E9-1C5B-47EB-8EF8-5ED99C3BB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62F2-EAD7-4C82-A7E0-6CCB25166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7203-9FC5-4AC4-AE1E-76A36CB95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5CFD-2B23-4B75-BD50-D0D383F93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E1AA-02EA-4A0F-913B-EA768D950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54BC-4B1D-45F3-A39F-2BF704E7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380C-FDBB-4DF2-B7E0-E6ECF239C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230B-82E7-4A9A-90C0-40AFD154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2505-29FC-41BC-9F5F-D3D7EF82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E03C-6E2D-4CF5-950B-F44225A8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CC923-C1ED-4C4F-B80C-444B2FD530D1}" type="datetime">
              <a:rPr b="0" lang="en-US" sz="1200" spc="-1" strike="noStrike">
                <a:solidFill>
                  <a:srgbClr val="898989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39B65-FFCA-4E0F-91C5-AB6223BD3E42}" type="slidenum">
              <a:rPr b="0" lang="en-U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Nature of Scie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rite down 5 observations from the picture below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3" name="Picture 2" descr="http://www.mrhatten.com/images/me-crime-scene.jpg"/>
          <p:cNvPicPr/>
          <p:nvPr/>
        </p:nvPicPr>
        <p:blipFill>
          <a:blip r:embed="rId1"/>
          <a:stretch/>
        </p:blipFill>
        <p:spPr>
          <a:xfrm>
            <a:off x="1752480" y="2400480"/>
            <a:ext cx="563904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inference can you make  from your observations? Write them down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6" name="Picture 2" descr="http://www.mrhatten.com/images/me-crime-scene.jpg"/>
          <p:cNvPicPr/>
          <p:nvPr/>
        </p:nvPicPr>
        <p:blipFill>
          <a:blip r:embed="rId1"/>
          <a:stretch/>
        </p:blipFill>
        <p:spPr>
          <a:xfrm>
            <a:off x="2133720" y="3048120"/>
            <a:ext cx="48006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5328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t 2: Using your observations and inferences, what could have happened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90720" y="2590920"/>
            <a:ext cx="769608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ke a list of possible scenarios with the picture as the final scen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additional information would you like to have? Make a list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40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uld you write your own story based on your observations and inferenc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53341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6T18:18:24Z</dcterms:created>
  <dc:creator>Administrator</dc:creator>
  <dc:description/>
  <dc:language>en-US</dc:language>
  <cp:lastModifiedBy>CAC CAC</cp:lastModifiedBy>
  <dcterms:modified xsi:type="dcterms:W3CDTF">2011-08-21T05:36:26Z</dcterms:modified>
  <cp:revision>17</cp:revision>
  <dc:subject/>
  <dc:title>Welcome to Science Class</dc:title>
</cp:coreProperties>
</file>